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AB9C-B6E4-4330-A1CC-4A7ED710C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9D50-7A4D-4F9B-8DC8-E54D8FE49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3C97-6410-47CB-AD7E-1B6AA3576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A475-DC33-47A0-B890-A2AEE0F59D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8AC6-2229-4169-9125-98FCC4AEA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8CDC-BBB6-464C-86E7-F58545BFB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0148-244C-46D7-B15A-ACA3666E6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F41C-D77F-4BD3-B1FB-0D677A78D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7260-501D-4467-B827-09C844A6B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4425-182A-46C7-AB85-FA66DA669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AA73-A165-4862-9BE9-8E41A5C86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4456-6061-4BB7-ABAB-C5708E134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00440"/>
            <a:ext cx="3962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CF7-00C5-4F57-9CE2-1C9CEA17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6 (University at Buffa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mination of Ontology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bian Neu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t-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Ceu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irector of Biomedical Informatics, UB Health Science Facul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6CB7-1B75-4A36-BC43-E8DAB8379A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vel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i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nic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c scienc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omedical termi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02DE-B9F7-49D9-9B8D-4A5B8ECE5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BF34-AE1A-4C04-B20B-F97CF5972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portion of reality that forms the subject-matter of a single science or technology or mode of stu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ral infections in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FA78-6A6A-4B7D-8736-61C5E3054B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1A42-9BB2-469C-8089-2F681D828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4992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548F-3732-4707-B84A-8D4CE12A2A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6450-D33F-4011-8618-34EFE59DC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9CDF-DFBC-4ED3-A770-2A92C75779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A9B2-B8D4-4EF7-8038-844E989A2932}" type="slidenum">
              <a:t>17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kinds of composit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representations (Lev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efacts (Level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ity on the side of the patient (Lev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594800">
            <a:off x="515520" y="2924280"/>
            <a:ext cx="914400" cy="647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85000">
            <a:off x="2437920" y="3047760"/>
            <a:ext cx="1957680" cy="647640"/>
          </a:xfrm>
          <a:custGeom>
            <a:avLst/>
            <a:gdLst>
              <a:gd name="textAreaLeft" fmla="*/ 305640 w 1957680"/>
              <a:gd name="textAreaRight" fmla="*/ 1713240 w 19576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484800">
            <a:off x="6408360" y="5080680"/>
            <a:ext cx="1212840" cy="1086120"/>
          </a:xfrm>
          <a:custGeom>
            <a:avLst/>
            <a:gdLst>
              <a:gd name="textAreaLeft" fmla="*/ 189360 w 1212840"/>
              <a:gd name="textAreaRight" fmla="*/ 1061280 w 121284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A585-EC24-4A67-A12D-5CFCF74C1D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57B7-BE14-44BC-8776-5605EC5706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al Model of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, OBO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GO – Functional Genomics Investigatio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I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dical Imag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461C-BDD0-46CD-940F-E1AAFF8AD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A98D-7C03-4FA3-9821-AD30B4732C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723F-E9D0-4825-B752-D2F159932E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35E2-B672-4C06-AE1E-5ADC4D5639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546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FD4C-20DC-4D5B-AA0C-4CEC591CAC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, inventories: represent what is particular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instances (O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, terminologies, catalogs: represent what is general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ypes (O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6DFA-72C7-4D06-ACED-45B3C8F079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9A18-4A31-4BE9-B2E4-70C39CAB13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D3AD-1475-4583-AE9C-3E7975818A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ng” is not the name of a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ACE6-6F73-467E-9676-20BC8FF7F5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S Semantic Network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is_a B 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narrower in meaning than B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part_of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d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385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s one or more other physical uni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stand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ED1A-E3CD-4F36-909C-C8D75DDDCA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who think ontologies are representations of concepts make mistak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tal absent nipp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introduce or to remove other tube or instru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teri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rimental model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CF12-0354-4E7B-996B-E586676DB2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ontology as a tool for biomedical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35AB-39DE-4754-A492-DFE3006E9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is a tool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do not describe the concepts in scientists’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cribe the types in reality, as a step towards finding ways to reason about (and treat) instances of the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D7BF-C997-43AD-859A-CF0804C089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inician has a cognitive representation which involves theoretical knowledge derived from text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95E6-73FC-49B9-B5F3-AEC85F15E6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representation of types in re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4038480"/>
            <a:ext cx="1828800" cy="3812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1DFA-1EB3-48AC-B4FE-C9D1F9582E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D8BA-88E2-4697-B0BB-8FDFBB16B2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 stand in similarity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ank and Bill are similar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umans, mammals, animals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, mammal and animal are types at different levels of gran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A52F-89CE-4E79-829E-A262A93054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88680" y="3390480"/>
            <a:ext cx="1597680" cy="1410840"/>
            <a:chOff x="688680" y="3390480"/>
            <a:chExt cx="1597680" cy="1410840"/>
          </a:xfrm>
        </p:grpSpPr>
        <p:sp>
          <p:nvSpPr>
            <p:cNvPr id="133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4"/>
              <a:endCxn id="135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68868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5028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135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5" idx="4"/>
              <a:endCxn id="140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43" idx="4"/>
            <a:endCxn id="144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145" name=""/>
          <p:cNvGrpSpPr/>
          <p:nvPr/>
        </p:nvGrpSpPr>
        <p:grpSpPr>
          <a:xfrm>
            <a:off x="5108400" y="572760"/>
            <a:ext cx="1749960" cy="1410840"/>
            <a:chOff x="5108400" y="572760"/>
            <a:chExt cx="1749960" cy="1410840"/>
          </a:xfrm>
        </p:grpSpPr>
        <p:cxnSp>
          <p:nvCxnSpPr>
            <p:cNvPr id="146" name=""/>
            <p:cNvCxnSpPr>
              <a:stCxn id="147" idx="4"/>
              <a:endCxn id="143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510840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143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0"/>
            <a:endCxn id="151" idx="1"/>
          </p:cNvCxnSpPr>
          <p:nvPr/>
        </p:nvCxnSpPr>
        <p:spPr>
          <a:xfrm>
            <a:off x="4789440" y="2171520"/>
            <a:ext cx="165024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55" name=""/>
          <p:cNvCxnSpPr>
            <a:stCxn id="144" idx="4"/>
            <a:endCxn id="152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158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425016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endCxn id="158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55022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33920" y="5410080"/>
            <a:ext cx="5181480" cy="838440"/>
            <a:chOff x="3733920" y="5410080"/>
            <a:chExt cx="5181480" cy="838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7339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5791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724280" y="5410080"/>
              <a:ext cx="83844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80773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6934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3480" y="2681280"/>
            <a:ext cx="1981440" cy="1281240"/>
            <a:chOff x="-33480" y="2681280"/>
            <a:chExt cx="1981440" cy="1281240"/>
          </a:xfrm>
        </p:grpSpPr>
        <p:sp>
          <p:nvSpPr>
            <p:cNvPr id="172" name=""/>
            <p:cNvSpPr/>
            <p:nvPr/>
          </p:nvSpPr>
          <p:spPr>
            <a:xfrm>
              <a:off x="609480" y="3048120"/>
              <a:ext cx="5922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33480" y="26812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f nod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F2DB-C494-49D8-B2C6-BA04E64950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ximal collection of particulars determined by a general term (‘cell’, ‘oophorectomy’ ‘VA Hospital’, ‘breast cancer patient in Buffalo VA Hospital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1E17-7C92-4177-89EE-DD4F09E4A8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defined by a general term which does not designate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. 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C6DB-774E-46FB-8DAC-21FDBD67A4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resentational artifact whose representational units are natural language terms (with IDs, synonyms, comments, etc.) which are intended to designate defined clas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B06C-B91C-4626-B756-14EF6A962F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&lt; defined classes &lt; ‘concept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f those things which people like to call ‘concepts’ correspond to defin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 or other procedure not carried out because of patient's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EDDD-7EF4-46B1-9DE3-F868F6D5DB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 of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800" y="3900960"/>
            <a:ext cx="819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on consists in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entities in a give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, then, is an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information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7C69-C658-4EC5-9161-C4A228D37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_a HCFA Common Procedure Cod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E5D6-462C-4D65-8A5C-52D7E27E303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4189-AD14-48DF-BE85-1DF39DBEF7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ft tissue tumor AND/OR sar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 differentiation or developm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ccidental submersion or drowning in water transport accident injuring other specifi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ture of other tendon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4089-CBEA-454F-BC26-57FD0682681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needs to find uniform ways of representing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=def 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ypes in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ose relations between these types which obtain universally (= for all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306B-BFA3-4548-8049-0633DE4E13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divis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56F8-DF27-48BB-814D-178946DE7E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lation between types is more problematic than is standardly sup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being has_part human test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is part_of human be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862B-DC5A-4D4D-A710-4CF5ED3DDD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a relation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art_of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all instan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level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ome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testis part_of adult human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E953-DDF5-4B8A-9AC7-97F3657300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inds of par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inst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nucleus part_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2300-D8C2-4F07-B8EF-0603853A11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PART OF SO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05AB-1EF3-4B0E-8FCC-E4FDBAD89C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for enduring entit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LL-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UCTURE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BAEB-BA9A-4640-9570-25FD6AB0EE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1440" y="2666520"/>
            <a:ext cx="57150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263B-954A-4AE0-8CF5-ECB9E97323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art_of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 part_of C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-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definitions in the OBO-RO 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of i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withi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 betwee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i) between ontologies and EHR repositories of instance-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F045-2B75-4375-B2E2-75645FAF10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is adjacent to this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ytoplasm is adjacent to this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yp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cleus adjacent_to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ytoplasm adjacent_to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42599" b="0"/>
          <a:stretch/>
        </p:blipFill>
        <p:spPr>
          <a:xfrm>
            <a:off x="7162920" y="2892600"/>
            <a:ext cx="1523880" cy="145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6D80-F17A-4798-99AB-5C49795A940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ymmetry e.g. for protein-protein interactions hmay hold only at the 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CA49-9D1F-4969-A3BC-3FC52A5A1E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O Relation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600200"/>
          <a:ext cx="7162920" cy="4842000"/>
        </p:xfrm>
        <a:graphic>
          <a:graphicData uri="http://schemas.openxmlformats.org/drawingml/2006/table">
            <a:tbl>
              <a:tblPr/>
              <a:tblGrid>
                <a:gridCol w="2527200"/>
                <a:gridCol w="463572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undational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_a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_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acent_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mpo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tion_of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s_from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ded_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participant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a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800C-D604-4E69-8F7B-597A70F95D3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FFAE-5897-495C-A5A3-04C5565C1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 = our knowledge and beliefs abou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 = formalizations of those idea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83C4-BEC4-449B-A520-1F41E1DF9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evels to Keep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: the reality on the side of the  organism (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2: cognitive representations of this reality on the part of clinic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3: publicly accessible concretisations of these cognitive representations in textual, graphical and digital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all interested primarily in 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5BD2-B9F4-4704-AFEF-2AE01E8CE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gnitive representations of clinicians or resear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embodied in their theoretical and practical knowledge of the reality on the side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ACB0-B25B-4499-AA55-0836C68CA5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4:58Z</dcterms:created>
  <dc:creator>phismith</dc:creator>
  <dc:description/>
  <dc:language>en-US</dc:language>
  <cp:lastModifiedBy>phismith</cp:lastModifiedBy>
  <dcterms:modified xsi:type="dcterms:W3CDTF">2006-03-03T05:37:15Z</dcterms:modified>
  <cp:revision>24</cp:revision>
  <dc:subject/>
  <dc:title>Slide 1</dc:title>
</cp:coreProperties>
</file>